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92-34B5-4310-9689-E84A80AA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542-117F-4AE7-B74C-13D3BD2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967F5-D2BA-4D85-8DC9-5EE5CBC3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DF1A5-9887-4205-A798-0818DEDF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47AE-C021-438F-B651-34CB92F6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89CB-54B7-4CED-A82B-4B0B1F4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8088-1F05-46A1-A2FE-C348E55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D2BF8-F036-47F0-8A79-9F76F38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85DBD-64A1-4C07-B02B-1C3A8CF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81DED-FB58-4348-A30F-C999EAC7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14E2-0409-47E9-BEDD-E5C58ADA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B7405-F435-4953-9D52-A90DE04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229-1344-4524-AC46-0389F3E5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F27A-0F24-4B4A-BB47-82D6843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5D18E-812F-4D6B-9C58-90DDEE1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418D1-9897-4377-B493-4C12AE8C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D16A4-2346-451D-8337-FDC3C6E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7251A-99DF-4CEC-9BE4-E6E00D6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ADED9-0663-4F5D-BA8B-912571D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BCCF0-0AFA-4054-A899-4D01323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548D0-748E-4B31-8304-0DB6F67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D75C3-E691-4160-BF8F-843FF6F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1FDE-A350-4FF0-A4EA-91E9DC01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2FF-DAA8-46BC-A1EC-4C1F8240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1B762-44F6-43E5-B171-36FC9A07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E0A1-3C1E-4365-89E4-1048FB5A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DA5FE-9A8E-4224-AEEC-538029D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D3CC4-13A3-4083-B612-CDE50455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68B7-6FE9-4D81-BE90-92A28EE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81CF-7F96-44DF-876A-30C3D9FC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B31A-2429-481F-9FC7-AABD01E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6920-0746-4AB1-9F3F-9A69F202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D3C0-B9B3-4027-8CD6-700AAB3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9F87F-EA37-4582-BD2B-0B1978B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310B-C09B-4EDF-B562-073E6E62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8794-B225-47C3-8FFC-F4EE5711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EA832-5224-44AE-8F80-7F5472A8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21A8D-2E5E-4A32-BCA5-B411FF62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BFD43-4557-404D-9C34-3AC6EF28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A5297-22DE-4918-990E-8B2DD05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E8B24-CDB7-4D4C-8A28-7C76CAE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38D66-A34D-47E0-91EB-1DE035E6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340F2-3CBE-40E6-A888-BBDDBC63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0DE16-2170-4B81-AFE2-6D219457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4B1C-45FE-4918-B21B-243937DE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01AA-0431-434A-B3F8-E225543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03CBB-3B25-4B37-BE12-1A83D06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1B2F4-2BBC-4AA9-852E-879700E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159D7-EECA-4FC7-82DB-F263065B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3474F-DF0B-4D3E-BF4C-F73710F3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242B-D04F-42F5-B42A-75EA398E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D09-1D27-4E4A-A3D4-1725E50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706-66B7-479F-BA9D-A9596BC2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947-CCCD-4CEF-B542-71EDD0CF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7EB-CA45-4DD0-BFB9-9ACC281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E8B6-6F7F-44DE-9579-7EECC49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E04-85E0-46E7-8DC3-0A410990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FF07-7CB5-43E4-BF96-F34CB05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E5D-707E-4D47-B88F-F42D4F3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8BA4-2EB1-4685-8D96-9E670D1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A050-4B2C-42F4-A4C9-A9AEA4B0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B3DD-035B-4BB9-9887-68BA4F6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E094-D36B-4567-9619-4E2B6094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53A0-F784-4814-A1F5-6270AD7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B8B8-172D-44A5-BD73-1DBE72D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7E10-7449-4E40-BCF1-DBAD56E4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D398-5345-466E-9B1E-86BEE6E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42B-FBF0-49F8-86F9-50E51E09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CBB7-9F0E-4C76-93D1-FE7FEAA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5AAE-4F9C-4E56-911C-1D2DBF0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BDB2-461E-433B-9D34-AB3E726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E4F0-AB0F-4040-A31E-FBACEC9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0D37-A884-4CE8-A69B-EADC7DA4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A14C-568B-4E8B-9C13-E1CF1008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549C-6656-488F-A2F6-1EC422D4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C2A3-CE8A-4D2E-AA42-4054FE6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EBA2-BB51-4896-8E93-DBDB053A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FC09-02AC-487D-ABF2-82CDB73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994-C9AC-499D-A655-8AAFBC0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A5C3-F4E7-43C7-9FF1-0A7A2B6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6431-4CF0-4548-8DD9-0E6E9695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73C6-6CD3-40A3-A65F-781ADFE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2D78-73D6-4CA1-9617-8F21B7F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2480-0364-45C3-86DE-6826B18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203B-7210-492A-8ABE-E9829A5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0348-D843-4998-87D3-485EBC8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67B0-FEB3-4096-9E80-FC2659FA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AF57-9161-45F5-BAD1-5D34B265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2F2B-18E3-4651-91DE-D7F64C2A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EF0-B8DF-4EB1-B6B1-AD2F3C78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DA66-F5F1-4B10-A369-59E9220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A73E5-B45D-4BC5-AFD0-EFBED3D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4A90-7C55-4F47-8104-4C92AD41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4CDE-B8F7-4FD3-8951-52FF7160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7686-ECF6-474C-BEDB-5A4DC43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CA1E-5C14-44EB-8DF1-803D17C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5467-B94B-4887-B7ED-895EFE3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29FA-C65A-46F0-8FD2-F407D1B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3C92-B453-4965-94E4-43CA5CB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5CB4-FA31-4C38-86A6-42E26271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93B-E33F-4D52-88BB-CC50C17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7495-9E95-4554-AE9D-4E419717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18C3-B43B-489D-B0D9-E40CEFF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7A2B-D95F-4026-9B09-41A3A718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1A79-4567-4AF2-8482-06D43DE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7351-22A0-40E8-8318-536B36C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0C6F-3963-4FBB-B1BB-578997A7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30E1-C807-4505-8671-659E7DE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3BCD-5433-4E6B-9E6A-856E607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1DD4-3C37-41C6-9E9D-40B2D7A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641E-6CE6-4842-B594-2C57CD6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0BD-39D9-46F1-9691-293678A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4369-E842-48A0-8C3E-BE96E2FB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F4F1-4CCC-431A-86E5-50082E7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4FD63-37EE-4957-8ED3-FD525201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17EA-0604-4B5F-9B60-16646166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7542-4709-4FA0-A29B-949748E4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39F1-0AF0-4CB0-B0CC-5C40708F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6390-DAAA-4996-9110-A62C65A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F4FD-D841-45C0-A2DD-0017186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B9901-AD96-40E6-9E21-8DD7BBC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34E31-E25A-4CE7-94EC-35B94C2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370-15BE-44D4-AF49-BA34B22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FA75-3186-45B2-8281-8FBBE0C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BAF1-93E6-47C0-9AC6-4629B92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3463-E64D-4003-AF0E-F98AA7F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BFEA-F955-4BE4-9AC3-B378E22B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0DB8-BDC0-4188-8A04-144EEA8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F941-8589-412F-9FDF-4242786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79F0-F7C6-4DD5-8760-2CA194E7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E98E-FE58-4F42-8529-0CD0755E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FD4F-926D-4059-A02E-37C53FA2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56B7-289D-408F-AB9C-5679D828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2B4-92CE-4197-B178-D176041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D447-CE3A-4485-825C-6C9C0A0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256C-E957-4C81-A15C-A965D33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1D92-0F7B-4F7B-9459-2BB7AC76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C2F5-CF02-4F96-821E-3A245105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84F9-76AB-4837-908A-A862AB1A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8828-6A3C-49F3-91D1-D7ADD243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83AF8-B53E-43B0-98EC-0EC9FA91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B9E3B-3DED-47D8-ABAF-85E5114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C238-4EFC-4BDD-845A-14172E1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A7AD6-41BA-4ED6-8F49-A37F03FD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6CF-7132-4FF2-917E-293CF9588D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1719-E124-453E-AC75-569ACCBEB7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1EEA-CF1C-4C6F-800C-3B6D2532DF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BE2-F2DF-4A81-A39B-F467FCEBF9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97E-2848-4D78-B059-CA09FF731B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FA6-92A8-46D9-9D5A-69A8ECEDEE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326-6D4B-4EA6-8B78-135E4AF386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522-CA62-45A6-9464-542009FA64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4CA-BC81-4733-B14D-C3BBA75F2A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0D8-A5DA-4E84-BA08-69379F29E3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8656-BD61-4F63-8461-7F98D6849A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6D5-389A-4841-B871-48DC3DE530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6 Mne nehodné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dal mil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n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ehodnému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á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al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ilosť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6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riechy mi všetky odpustil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zaplatil za ne vlastnou krvou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aby som s ním raz večne žil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snem nad toľkou milosť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iniem sa k n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vďačnosť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Nič dobré som si nezaslúžil,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odplatou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z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hriech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smrť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vie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kvôli mne zomrel sám Syn Boží,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vďačný byť jemu za to chce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 mojom srd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z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Pán vydobyl mi spasenie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Božou 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sa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 nej všetkým rozpr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lovek tu nad ňu v žití ce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ôže cennejšie nič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ôkol šír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u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Pánovi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u, česť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57:11Z</dcterms:modified>
  <cp:revision>22</cp:revision>
  <dc:subject/>
  <dc:title>Je veľký náš Pán, on slávy je Kráľ Nech do všetkých strán  spev vrúcnych znie chvál.</dc:title>
</cp:coreProperties>
</file>